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93E4-1364-4933-8297-967568F5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CAD-FF70-4CEA-AC9E-AA8829E9F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705-4730-4BFE-A12C-D471B010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BB9-D9F3-4F4B-81F1-CACA91C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B9A-8646-43E0-8EE3-DC791EC3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D4D-E741-4F01-9709-E7A1FA73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8806-839B-4553-A5A9-C2CD5D20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5A95-B326-4336-B3ED-0069EB9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A1A-B672-4E65-8DCE-62CCB68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F4A-765F-403B-B60F-70BF00D0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6CB2-DD68-48C8-90F8-EFBAE44A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111-4365-4E08-BF81-827B7E7E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2C38-1A3B-42A6-9ACA-68F3C03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F55-934D-4782-8E1A-B396548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A7F5-BA59-4305-81BF-BFAD436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66AF-3AC4-483B-A503-6107D3B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E1E7-F7A1-49A3-961D-ED0A4D9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5C2D-5200-44EC-AE30-92A138BA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4B34-5C39-4F46-A596-69613EC1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87C3-56AB-444D-B6E5-3751BD94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C358-C4D7-48C7-959B-2EBAFB38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8344-F7D8-4F72-A4B7-2E99EE3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CB50-850A-4FB9-96A1-7D1E558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DE3D-7886-4182-8970-F6D8DAE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B85-CA61-4AA0-B9DA-347344BC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EDB5-D199-4B9E-86AF-BAC272FA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9CC5-A090-4190-A3AE-129A5ED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A40E-36CB-46AB-B86E-78DBBB5E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608B-3959-4F3B-9098-7B150C1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72DF-AB5F-4083-9C0F-6FCA1171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623D-BB30-4C57-AC03-35575EC6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3937-73DD-4C0F-B1EB-458F8BEF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A990A-9AA0-4442-9135-C35CA3DE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7263-3A9B-4003-A799-F9BAADB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F17B-2C85-4895-A446-E51F2835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990-105E-4204-B04F-CC533018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705C-0323-4EBD-B009-2C8794B6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2E0C-91BD-4F66-ABFA-F06C38EE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1328E-8B6F-402E-B8C1-CCD925C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93B3-42DD-42C5-95F1-20924989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1DFC-E878-4AF5-9D78-7CB850C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067B-D1E8-42F0-A7A2-63593B0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5709-34B4-4CB4-91E0-F9CD3E1A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ADCE2-66E9-4790-B7B9-2B13CBF1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11BD-666D-4B77-A2A5-4C48A17F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DE0E-85A5-4F8E-904F-DDDB0BC2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C7C-8A3E-467D-BF4B-691011F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04D0-5EBB-4FA7-A150-79060EE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8D86-75F4-417B-A2F7-90CE5D1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18147-2700-4750-80BA-DB265ABC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9D45-6310-4D53-8587-3186F7BA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252F-83CD-43E0-B2FB-95757DDD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C3B64-EA16-4841-9C48-3A909B6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B2C0C-A3A1-4FD6-8C56-2B60077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E5A53-4354-4886-B8F5-53A6AEE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A7023-67D3-477F-8C91-2850C14F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6050-BF85-4451-9B8C-FC076AC2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836-3F08-482F-B8D7-5DEA37FF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F1D4-22E0-42A8-9F8F-B36C7C13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58F-2342-4CC4-A07E-29C02C5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A05-A4A9-483A-B8DF-132276DF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4A1-0604-4909-9B45-FD1A655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AB4-56AC-4859-8358-EB674E12601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113D-7FC2-41C4-9BAC-EE95278631E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FD67-A712-4265-BB1B-EA8DD6B5FB1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81A-6D04-4CCE-8235-F474E31618DF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AFAE-EDCE-4B6F-9DC4-2C703C1BDCD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" Target="slide33.xml"/><Relationship Id="rId4" Type="http://schemas.openxmlformats.org/officeDocument/2006/relationships/slide" Target="slide41.xml"/><Relationship Id="rId5" Type="http://schemas.openxmlformats.org/officeDocument/2006/relationships/slide" Target="slide18.xml"/><Relationship Id="rId6" Type="http://schemas.openxmlformats.org/officeDocument/2006/relationships/slide" Target="slide26.xml"/><Relationship Id="rId7" Type="http://schemas.openxmlformats.org/officeDocument/2006/relationships/slide" Target="slide34.xml"/><Relationship Id="rId8" Type="http://schemas.openxmlformats.org/officeDocument/2006/relationships/slide" Target="slide42.xml"/><Relationship Id="rId9" Type="http://schemas.openxmlformats.org/officeDocument/2006/relationships/slide" Target="slide19.xml"/><Relationship Id="rId10" Type="http://schemas.openxmlformats.org/officeDocument/2006/relationships/slide" Target="slide27.xml"/><Relationship Id="rId11" Type="http://schemas.openxmlformats.org/officeDocument/2006/relationships/slide" Target="slide35.xml"/><Relationship Id="rId12" Type="http://schemas.openxmlformats.org/officeDocument/2006/relationships/slide" Target="slide43.xml"/><Relationship Id="rId13" Type="http://schemas.openxmlformats.org/officeDocument/2006/relationships/slide" Target="slide20.xml"/><Relationship Id="rId14" Type="http://schemas.openxmlformats.org/officeDocument/2006/relationships/slide" Target="slide28.xml"/><Relationship Id="rId15" Type="http://schemas.openxmlformats.org/officeDocument/2006/relationships/slide" Target="slide36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29.xml"/><Relationship Id="rId19" Type="http://schemas.openxmlformats.org/officeDocument/2006/relationships/slide" Target="slide37.xml"/><Relationship Id="rId20" Type="http://schemas.openxmlformats.org/officeDocument/2006/relationships/slide" Target="slide45.xm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how.com/about_4743574_different-kinds-computer-viruses.html" TargetMode="External"/><Relationship Id="rId3" Type="http://schemas.openxmlformats.org/officeDocument/2006/relationships/hyperlink" Target="http://www.microsoft.com/security/antivirus/whatis.aspx" TargetMode="External"/><Relationship Id="rId4" Type="http://schemas.openxmlformats.org/officeDocument/2006/relationships/hyperlink" Target="http://www.newton.dep.anl.gov/teachers/compvir.ht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20.png"/><Relationship Id="rId4" Type="http://schemas.openxmlformats.org/officeDocument/2006/relationships/image" Target="../media/image30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answers.com/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webmd.com/mental-health/features/video-game-addiction-no-fun" TargetMode="External"/><Relationship Id="rId3" Type="http://schemas.openxmlformats.org/officeDocument/2006/relationships/hyperlink" Target="http://www.ocregister.com/news/game-208290-wow-addiction.html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60840" cy="2146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Romans: Destiny Tucker, Cire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Berry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, Emmett Mobley, Imani Hawkins, Armani Cart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ople who are addicted to games as a child don’t develop socially and never learn to play a s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Game addicts are males under 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arning signs of game addiction ar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reasing amounts of time spent on gam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tantly think about gaming while doing something el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games to escape real life probl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aling gam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eling irritable when trying to cut down on time spent gam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4430" y="3794"/>
                </a:moveTo>
                <a:lnTo>
                  <a:pt x="18443" y="10800"/>
                </a:lnTo>
                <a:lnTo>
                  <a:pt x="443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nary numbers go by the power of 2. And everything in the computers are converted to 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, because there is only two states an electrical circuit can be in. it addresses the way the computer count different things tha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on i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2578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4475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ind the total of the true numbers for the binary i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easier to use the char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8   64   32   16   8   4   2   1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1     0     0    1    1   1   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number (true number) converted to Binary Numbers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9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5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1001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34340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 together the columns where the 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re to get deci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410080" y="464832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the largest binary number into the decim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886200" y="28954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5335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11430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6002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2133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25146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29718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7"/>
          <p:cNvSpPr/>
          <p:nvPr/>
        </p:nvSpPr>
        <p:spPr>
          <a:xfrm>
            <a:off x="3276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3581280" y="30481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9"/>
          <p:cNvSpPr/>
          <p:nvPr/>
        </p:nvSpPr>
        <p:spPr>
          <a:xfrm>
            <a:off x="4876920" y="4800600"/>
            <a:ext cx="53316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15">
            <a:hlinkClick r:id="" action="ppaction://hlinkshowjump?jump=nextslide"/>
          </p:cNvPr>
          <p:cNvSpPr/>
          <p:nvPr/>
        </p:nvSpPr>
        <p:spPr>
          <a:xfrm>
            <a:off x="693432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;Byt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byte is a unit of data that is eight binary digits long. A byte it’s a unit most computers use to represent  a letter, number, or symb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76320"/>
          <a:ext cx="8229600" cy="6781680"/>
        </p:xfrm>
        <a:graphic>
          <a:graphicData uri="http://schemas.openxmlformats.org/drawingml/2006/table">
            <a:tbl>
              <a:tblPr/>
              <a:tblGrid>
                <a:gridCol w="1711440"/>
                <a:gridCol w="1630080"/>
                <a:gridCol w="1629000"/>
                <a:gridCol w="1630440"/>
                <a:gridCol w="1628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ru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ide the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Game Ad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nary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3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4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5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6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7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8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9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0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1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2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3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4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5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6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7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8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9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0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530280" y="-237960"/>
            <a:ext cx="8211960" cy="1487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2193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What is a virus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86000" y="25909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s a computer program that can multiply itself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 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and infect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s a computer program  that hacks your computer and then  fixes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Is a computer program  that creates a lot of pop up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Is a computer program that takes away all our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123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ich one is a form of a viru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33526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rojan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rojan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roja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roj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____ we ar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wea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Vulnerab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Egotistica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powerfu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998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virus is a computer program that can multiply itsel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fect a comput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is commonly used to refer to other types of malware, adware and spyware progra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an spread from one computer to another in some type of code when its host is taken to the target computer; it could happen when a user sent it over a network or the Internet, or carried on a floppy disk, CD, DVD, or USB driv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 vulnerable we 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Forward or Next 3">
            <a:hlinkClick r:id="" action="ppaction://hlinkshowjump?jump=nextslide"/>
          </p:cNvPr>
          <p:cNvSpPr/>
          <p:nvPr/>
        </p:nvSpPr>
        <p:spPr>
          <a:xfrm>
            <a:off x="6553080" y="59436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way to protect yourself from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void unknown internet webs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Never double click a email attach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Use virus prote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5" action="ppaction://hlinksldjump"/>
              </a:rPr>
              <a:t>Avoid random progra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609480" y="4730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a reason why people create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people like devas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Bragging righ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for the fun of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Test different computers weaknes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Title 3" descr=""/>
          <p:cNvPicPr/>
          <p:nvPr/>
        </p:nvPicPr>
        <p:blipFill>
          <a:blip r:embed="rId5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4" descr=""/>
          <p:cNvPicPr/>
          <p:nvPr/>
        </p:nvPicPr>
        <p:blipFill>
          <a:blip r:embed="rId1"/>
          <a:stretch/>
        </p:blipFill>
        <p:spPr>
          <a:xfrm>
            <a:off x="450720" y="-615960"/>
            <a:ext cx="8242560" cy="214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Users\lundylog\AppData\Local\Microsoft\Windows\Temporary Internet Files\Content.IE5\BN3GBYYM\MC900433820[1].png"/>
          <p:cNvPicPr/>
          <p:nvPr/>
        </p:nvPicPr>
        <p:blipFill>
          <a:blip r:embed="rId2"/>
          <a:stretch/>
        </p:blipFill>
        <p:spPr>
          <a:xfrm>
            <a:off x="1447920" y="1066680"/>
            <a:ext cx="5790960" cy="5181840"/>
          </a:xfrm>
          <a:prstGeom prst="rect">
            <a:avLst/>
          </a:prstGeom>
          <a:ln w="0">
            <a:noFill/>
          </a:ln>
        </p:spPr>
      </p:pic>
      <p:sp>
        <p:nvSpPr>
          <p:cNvPr id="299" name="Action Button: Home 4">
            <a:hlinkClick r:id="rId3" action="ppaction://hlinksldjump"/>
          </p:cNvPr>
          <p:cNvSpPr/>
          <p:nvPr/>
        </p:nvSpPr>
        <p:spPr>
          <a:xfrm>
            <a:off x="6629400" y="56386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12824" y="3837"/>
                </a:moveTo>
                <a:lnTo>
                  <a:pt x="15400" y="6448"/>
                </a:ln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lnTo>
                  <a:pt x="19787" y="10800"/>
                </a:lnTo>
                <a:lnTo>
                  <a:pt x="18133" y="10800"/>
                </a:lnTo>
                <a:lnTo>
                  <a:pt x="18133" y="17989"/>
                </a:lnTo>
                <a:lnTo>
                  <a:pt x="7515" y="17989"/>
                </a:lnTo>
                <a:lnTo>
                  <a:pt x="7515" y="10800"/>
                </a:lnTo>
                <a:lnTo>
                  <a:pt x="5861" y="10800"/>
                </a:lnTo>
                <a:close/>
              </a:path>
              <a:path fill="darkenLess" w="25648" h="21600">
                <a:moveTo>
                  <a:pt x="15400" y="6448"/>
                </a:move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close/>
              </a:path>
              <a:path fill="darkenLess" w="25648" h="21600">
                <a:moveTo>
                  <a:pt x="11902" y="14299"/>
                </a:moveTo>
                <a:lnTo>
                  <a:pt x="13747" y="14299"/>
                </a:lnTo>
                <a:lnTo>
                  <a:pt x="13747" y="17989"/>
                </a:lnTo>
                <a:lnTo>
                  <a:pt x="18133" y="17989"/>
                </a:lnTo>
                <a:lnTo>
                  <a:pt x="18133" y="10800"/>
                </a:lnTo>
                <a:lnTo>
                  <a:pt x="7515" y="10800"/>
                </a:lnTo>
                <a:lnTo>
                  <a:pt x="7515" y="17989"/>
                </a:lnTo>
                <a:lnTo>
                  <a:pt x="11902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5" descr=""/>
          <p:cNvPicPr/>
          <p:nvPr/>
        </p:nvPicPr>
        <p:blipFill>
          <a:blip r:embed="rId1"/>
          <a:stretch/>
        </p:blipFill>
        <p:spPr>
          <a:xfrm>
            <a:off x="298440" y="-920880"/>
            <a:ext cx="8242200" cy="283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lundylog\AppData\Local\Microsoft\Windows\Temporary Internet Files\Content.IE5\CINLLN2E\MC900433818[1].png"/>
          <p:cNvPicPr/>
          <p:nvPr/>
        </p:nvPicPr>
        <p:blipFill>
          <a:blip r:embed="rId2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lundylog\AppData\Local\Microsoft\Windows\Temporary Internet Files\Content.IE5\CINLLN2E\MC900433818[1].png"/>
          <p:cNvPicPr/>
          <p:nvPr/>
        </p:nvPicPr>
        <p:blipFill>
          <a:blip r:embed="rId3"/>
          <a:stretch/>
        </p:blipFill>
        <p:spPr>
          <a:xfrm>
            <a:off x="1828800" y="182880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0" y="4876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Back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ehow.com/about_4743574_different-kinds-computer-viruses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microsoft.com/security/antivirus/whatis.asp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http://www.newton.dep.anl.gov/teachers/compvir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216640" cy="209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95280" y="1752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does CPU stand for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09480" y="3657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Control Program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Contro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Central Processing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D) Computer U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8217000" cy="2090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asic function of the Video Car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066680" y="35812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Stores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Displays 2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Displays 2d and 3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-79200" y="225360"/>
            <a:ext cx="7711920" cy="11826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is the professional name for the “Heart of the Computer”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3526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Motherboa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Hard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Optical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36576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Steve Jo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Z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Bill Gat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9144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 created the first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7058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805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Optical drive uses light to receive information and a Hard drive stores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Optical Drive stores information and a Hard drive uses light to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They both use light to receiv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2120" y="21337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and Optical drive and a Hard dr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viruses- it travels as a attachment to email messages, and copies itself by automatically sending itself to random people in your conte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 horses- it’s a computer program which claims to do something but its really just damaging your computer secretl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m – is a small piece of software that uses computer networks and security holes to replicate itself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4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8137440" cy="1536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Documents and Settings\student\Local Settings\Temporary Internet Files\Content.IE5\9EES06XC\MC90043382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28800" y="19051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5">
            <a:hlinkClick r:id="rId5" action="ppaction://hlinksldjump"/>
          </p:cNvPr>
          <p:cNvSpPr/>
          <p:nvPr/>
        </p:nvSpPr>
        <p:spPr>
          <a:xfrm>
            <a:off x="6095880" y="48006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12272" y="3837"/>
                </a:moveTo>
                <a:lnTo>
                  <a:pt x="14849" y="6448"/>
                </a:ln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lnTo>
                  <a:pt x="19235" y="10800"/>
                </a:lnTo>
                <a:lnTo>
                  <a:pt x="17582" y="10800"/>
                </a:lnTo>
                <a:lnTo>
                  <a:pt x="17582" y="17989"/>
                </a:lnTo>
                <a:lnTo>
                  <a:pt x="6963" y="17989"/>
                </a:lnTo>
                <a:lnTo>
                  <a:pt x="6963" y="10800"/>
                </a:lnTo>
                <a:lnTo>
                  <a:pt x="5309" y="10800"/>
                </a:lnTo>
                <a:close/>
              </a:path>
              <a:path fill="darkenLess" w="24545" h="21600">
                <a:moveTo>
                  <a:pt x="14849" y="6448"/>
                </a:move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close/>
              </a:path>
              <a:path fill="darkenLess" w="24545" h="21600">
                <a:moveTo>
                  <a:pt x="11350" y="14299"/>
                </a:moveTo>
                <a:lnTo>
                  <a:pt x="13195" y="14299"/>
                </a:lnTo>
                <a:lnTo>
                  <a:pt x="13195" y="17989"/>
                </a:lnTo>
                <a:lnTo>
                  <a:pt x="17582" y="17989"/>
                </a:lnTo>
                <a:lnTo>
                  <a:pt x="17582" y="10800"/>
                </a:lnTo>
                <a:lnTo>
                  <a:pt x="6963" y="10800"/>
                </a:lnTo>
                <a:lnTo>
                  <a:pt x="6963" y="17989"/>
                </a:lnTo>
                <a:lnTo>
                  <a:pt x="11350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5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242200" cy="2828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student\Local Settings\Temporary Internet Files\Content.IE5\0U764WG3\MC900433818[1].png"/>
          <p:cNvPicPr/>
          <p:nvPr/>
        </p:nvPicPr>
        <p:blipFill>
          <a:blip r:embed="rId2"/>
          <a:stretch/>
        </p:blipFill>
        <p:spPr>
          <a:xfrm>
            <a:off x="236232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85800" y="5562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ack to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google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Inventors.about.c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www.answers.co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ow old are most addic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971800" y="3124080"/>
            <a:ext cx="5105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30 and 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10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10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y do people get addicted to games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743200" y="33336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like to play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Virtual Life becomes more appealing than re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are dating someone in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It is free and they feel that they need to take advantag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happens if someone is addicted to games as a chil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743200" y="29718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grow up to live a norm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hey don’t develop socially and never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don’t learn to play a sport, but they develop so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hey don’t develop socially, but they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does MMORPG stand for and what does WOW stand fo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Magically Multiplayer Offline Role-Playing God and World of Warmon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Magnificently Magically Online Role-Playing Game and Warcraft of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Massively Multiplayer Online Role-Playing Game and World of Warcr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Massively Multiplayer Online Role-Playing Game and World of Wa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is a warning sign of game addictio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Playing games when they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Only thinking about gaming when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Feeling great when cutting down on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Spending increasing amounts of time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8242560" cy="2584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tudent\Local Settings\Temporary Internet Files\Content.IE5\FM0DGQCO\MC900433820[1].png"/>
          <p:cNvPicPr/>
          <p:nvPr/>
        </p:nvPicPr>
        <p:blipFill>
          <a:blip r:embed="rId2"/>
          <a:stretch/>
        </p:blipFill>
        <p:spPr>
          <a:xfrm>
            <a:off x="15238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4">
            <a:hlinkClick r:id="rId3" action="ppaction://hlinksldjump"/>
          </p:cNvPr>
          <p:cNvSpPr/>
          <p:nvPr/>
        </p:nvSpPr>
        <p:spPr>
          <a:xfrm>
            <a:off x="6172200" y="4724280"/>
            <a:ext cx="1981080" cy="213372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133720"/>
              <a:gd name="textAreaBottom" fmla="*/ 2005560 h 213372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5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248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0" y="556272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Go Back and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5" descr="C:\Documents and Settings\student\Local Settings\Temporary Internet Files\Content.IE5\8323Y0WE\MC900433818[1].png"/>
          <p:cNvPicPr/>
          <p:nvPr/>
        </p:nvPicPr>
        <p:blipFill>
          <a:blip r:embed="rId3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472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programs and unknown sources( if don’t know what the program is don’t mess with it, just close out of i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virus protection such as anti virus software and virus sca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ver double click on email attachments( hit it once and wait, if nothing shows up, then hit again , if nothing, then assume your computer is acting slow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ction Button: Forward or Next 3">
            <a:hlinkClick r:id="" action="ppaction://hlinkshowjump?jump=nextslide"/>
          </p:cNvPr>
          <p:cNvSpPr/>
          <p:nvPr/>
        </p:nvSpPr>
        <p:spPr>
          <a:xfrm>
            <a:off x="647712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webmd.com/mental-health/features/video-game-addiction-no-f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ocregister.com/news/game-208290-wow-addiction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205840" cy="1481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power does binary numbers go b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447920" y="2971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</a:t>
            </a:r>
            <a:r>
              <a:rPr b="0" lang="en-US" sz="2800" spc="-1" strike="noStrike">
                <a:solidFill>
                  <a:srgbClr val="e3afd8"/>
                </a:solidFill>
                <a:latin typeface="Arial"/>
              </a:rPr>
              <a:t>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a byt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3880" y="3352680"/>
            <a:ext cx="670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seven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some computers use to represent a letter, number, o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nine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8278920" cy="1463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10110100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3880" y="3352680"/>
            <a:ext cx="6705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00001111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inary number for 227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7175520" cy="2116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C:\Documents and Settings\student\Local Settings\Temporary Internet Files\Content.IE5\PM48CWES\MC900433820[1].png"/>
          <p:cNvPicPr/>
          <p:nvPr/>
        </p:nvPicPr>
        <p:blipFill>
          <a:blip r:embed="rId2"/>
          <a:stretch/>
        </p:blipFill>
        <p:spPr>
          <a:xfrm>
            <a:off x="2590920" y="24382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370" name="Action Button: Home 5"/>
          <p:cNvSpPr/>
          <p:nvPr/>
        </p:nvSpPr>
        <p:spPr>
          <a:xfrm>
            <a:off x="6477120" y="518148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3839"/>
                </a:moveTo>
                <a:lnTo>
                  <a:pt x="13376" y="6450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2"/>
                </a:lnTo>
                <a:lnTo>
                  <a:pt x="16109" y="10802"/>
                </a:lnTo>
                <a:lnTo>
                  <a:pt x="16109" y="17992"/>
                </a:lnTo>
                <a:lnTo>
                  <a:pt x="5491" y="17992"/>
                </a:lnTo>
                <a:lnTo>
                  <a:pt x="5491" y="10802"/>
                </a:lnTo>
                <a:lnTo>
                  <a:pt x="3837" y="10802"/>
                </a:lnTo>
                <a:close/>
              </a:path>
              <a:path fill="darkenLess" w="21600" h="21605">
                <a:moveTo>
                  <a:pt x="13376" y="6450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5">
                <a:moveTo>
                  <a:pt x="9877" y="14301"/>
                </a:moveTo>
                <a:lnTo>
                  <a:pt x="11723" y="14301"/>
                </a:lnTo>
                <a:lnTo>
                  <a:pt x="11723" y="17992"/>
                </a:lnTo>
                <a:lnTo>
                  <a:pt x="16109" y="17992"/>
                </a:lnTo>
                <a:lnTo>
                  <a:pt x="16109" y="10802"/>
                </a:lnTo>
                <a:lnTo>
                  <a:pt x="5491" y="10802"/>
                </a:lnTo>
                <a:lnTo>
                  <a:pt x="5491" y="17992"/>
                </a:lnTo>
                <a:lnTo>
                  <a:pt x="9877" y="17992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5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559640" cy="2481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Documents and Settings\student\Local Settings\Temporary Internet Files\Content.IE5\PM48CWES\MC900433818[1].png"/>
          <p:cNvPicPr/>
          <p:nvPr/>
        </p:nvPicPr>
        <p:blipFill>
          <a:blip r:embed="rId2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0" y="578016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searchstorage.techtarget.com/sDefinition/0,,sid5_gci211721,00.html  (byt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SS;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mputers and the Internet- Unit 2, Binary Numbers Information, Binary Number System Made Easy, Binary Numbers Cha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computer was created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Mother Board is basically called, “ The heart of the computer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M means random access mem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ll Gates created Microso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ction Button: Forward or Next 3">
            <a:hlinkClick r:id="" action="ppaction://hlinkshowjump?jump=nextslide"/>
          </p:cNvPr>
          <p:cNvSpPr/>
          <p:nvPr/>
        </p:nvSpPr>
        <p:spPr>
          <a:xfrm>
            <a:off x="64008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program was created by K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Drive- is a storage device that stores basic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- it sends instructions of programs to the scr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761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cal Drive- a type of storage device, but it uses light to store and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wer Supply- electric circuit that change to make the computer able to come 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Card- displays 2d and 3d imag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 stands for Central Processing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9343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 Addiction occurs when virtual life becomes more appealing than real life because a pers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different than they are in re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0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MORPG stand for Massively Multiplayer  Online Role-playing G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e of the biggest MMORPGs in the world is WOW or World of Warc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ction Button: Forward or Next 5">
            <a:hlinkClick r:id="" action="ppaction://hlinkshowjump?jump=nextslide"/>
          </p:cNvPr>
          <p:cNvSpPr/>
          <p:nvPr/>
        </p:nvSpPr>
        <p:spPr>
          <a:xfrm>
            <a:off x="67057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student</cp:lastModifiedBy>
  <dcterms:modified xsi:type="dcterms:W3CDTF">2010-11-05T18:17:55Z</dcterms:modified>
  <cp:revision>101</cp:revision>
  <dc:subject/>
  <dc:title>Topic 1</dc:title>
</cp:coreProperties>
</file>